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B7F-4B39-46F5-B090-06B7C9BF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FED-A7B2-4163-936A-26802DF4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81D-F71A-4517-A5D0-210F2AE4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CDE-3D05-4D0E-B5F4-A2E5EAEE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937-5F45-44F0-AECA-D2F6D7A7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F67-4604-4D8E-BFD4-A1C271D3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C88-8DFE-43F1-9A0A-2BC278ED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193-3ABD-43CB-AB50-52301FC6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164-935B-41BE-B9ED-6B2F94A8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CFF-B175-4EF1-8EEE-1E2F4F05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29C-6276-43CD-A60B-D70900B1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2A1F-7872-4A75-BDC2-B756B5DB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4778-ECB6-49D9-8189-15A3DF0EF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20.xml"/><Relationship Id="rId17" Type="http://schemas.openxmlformats.org/officeDocument/2006/relationships/slide" Target="slide22.xml"/><Relationship Id="rId18" Type="http://schemas.openxmlformats.org/officeDocument/2006/relationships/slide" Target="slide24.xml"/><Relationship Id="rId19" Type="http://schemas.openxmlformats.org/officeDocument/2006/relationships/slide" Target="slide26.xml"/><Relationship Id="rId20" Type="http://schemas.openxmlformats.org/officeDocument/2006/relationships/slide" Target="slide28.xml"/><Relationship Id="rId21" Type="http://schemas.openxmlformats.org/officeDocument/2006/relationships/slide" Target="slide30.xml"/><Relationship Id="rId22" Type="http://schemas.openxmlformats.org/officeDocument/2006/relationships/slide" Target="slide32.xml"/><Relationship Id="rId23" Type="http://schemas.openxmlformats.org/officeDocument/2006/relationships/slide" Target="slide34.xml"/><Relationship Id="rId24" Type="http://schemas.openxmlformats.org/officeDocument/2006/relationships/slide" Target="slide36.xml"/><Relationship Id="rId25" Type="http://schemas.openxmlformats.org/officeDocument/2006/relationships/slide" Target="slide38.xml"/><Relationship Id="rId26" Type="http://schemas.openxmlformats.org/officeDocument/2006/relationships/slide" Target="slide40.xml"/><Relationship Id="rId27" Type="http://schemas.openxmlformats.org/officeDocument/2006/relationships/slide" Target="slide42.xml"/><Relationship Id="rId28" Type="http://schemas.openxmlformats.org/officeDocument/2006/relationships/slide" Target="slide44.xml"/><Relationship Id="rId29" Type="http://schemas.openxmlformats.org/officeDocument/2006/relationships/slide" Target="slide44.xml"/><Relationship Id="rId30" Type="http://schemas.openxmlformats.org/officeDocument/2006/relationships/slide" Target="slide48.xml"/><Relationship Id="rId31" Type="http://schemas.openxmlformats.org/officeDocument/2006/relationships/slide" Target="slide50.xml"/><Relationship Id="rId32" Type="http://schemas.openxmlformats.org/officeDocument/2006/relationships/slide" Target="slide2.xml"/><Relationship Id="rId3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6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7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8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6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7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8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9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0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1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2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uth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isel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as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am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ura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Hers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nd of genre Hersey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Hers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“nonfiction novel” - mixes fact with some f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ision the woman claims to see on the t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flames/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 that is happening in the last excer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alking through the cold to a new 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objects that are Elie’s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spoon and kn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mbol of the viol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Jewish culture (both got crushed/smashed through this orde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e Wie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on the Nobel Peace Prize for d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rony in Rabbi Eliahou who will “continue to look for his beloved so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his “beloved son” left him - not so bel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y Dr. Masakazu Fujii (3rd story) was sa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boards caught him like chopsticks just keeping his head above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rony in Miss Toshiko Sasaki’s story (last one - with boo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books are meant to help people learn &amp; grow and they are crushing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queness of Dr. Masakazu Fujii’s hos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it was private so the families came with the sick to take care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rony in Dr. Terufumi Sasaki’s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patient was terrified of dying from syphil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e Wie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uman rights speeches/activ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bjective statements from this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iseless Flas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100,000 people were killed, the population, warnings &amp; all clears, Japanese words, no sound, hospital rules, Army dugouts, death ceremoni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me shotwell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j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 that happens if they turn their ke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“bird” (bomb) is relea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 the narrator does that’s strange - must include specific object(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rite on the wall with the DIAM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e repetition in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o show that they are going crazy - or - to show that they are separating from the “norm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 O’Bri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ce where O’Brien got all of his id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reasons the men believe they are down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y are in an experiment AND they were forgotten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pic with which Paul wishes to discuss with his 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Vietnam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y in which this story is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0000" y="2523960"/>
            <a:ext cx="1839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4th of Ju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y in which Paul’s friend Max 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drow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al conflict Paul is ha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didn’t get the Silver Star or the Medal of Honor - he should have been more courage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 O’Bri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served in the Vietnam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rony in the A &amp; W sc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aking of Cour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no one wants to talk with Paul about the war and they didn’t believe it was really a war, but they use war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Hers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urce of Hersey’s works (where he got the ideas fr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Hers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was a journalist (traveled to different places, especially Hiroshi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ald Barthel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thelme’s main struggle in writing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ald Barthel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ords/the correct wo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Mindi Spear</cp:lastModifiedBy>
  <dcterms:modified xsi:type="dcterms:W3CDTF">2006-05-04T16:03:44Z</dcterms:modified>
  <cp:revision>50</cp:revision>
  <dc:subject/>
  <dc:title>No Slide Title</dc:title>
</cp:coreProperties>
</file>